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C95-B16D-4543-B94D-49EC2DBC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3BC-3628-4890-8FD9-AAD5775F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3C9-A608-4064-AF96-184690EF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71E-03AD-4026-A674-DD56E3D0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7228-FF9B-4861-89C6-AA12CB27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5F4F-3E08-4437-AE5D-39B50FF7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6F0F-E019-422A-B56F-349C1EF3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DAAF-B0E0-4B38-AF85-9A11F3EC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E246-FD00-4AC4-A794-5D0E3E8C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4A3C-CA88-4ABD-A788-70B8FD68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10F4-2EE4-4BB0-B9AE-045FEECA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81D-071D-447D-94B9-DE3D8E07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2A8-FEFC-4123-ACA7-9000E299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90A0-E887-4456-977F-35704136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F01F-10E4-480A-9836-5CFEEC2C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25AB-2615-4E53-BFBA-370DCA90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7044-0291-4D28-97AA-E6370CB9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EA3-B04E-4669-9AD1-942F6754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633-FD77-4053-A23B-FFAE125B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787-8709-44B0-9EB5-2FD936F7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B15-2BAD-4FD2-B6BB-50B0BC90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A83-1C9D-4903-95EE-B0789B1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BDF-89C7-4229-9EBA-E5F24516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791-756B-4EB4-8F06-354606F5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43D9-2D22-4DD7-A52D-5611AF6DA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F89B-3071-4B0A-9436-6AAA6D54F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teral Equ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teral equ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s an equation that contains two or mor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olve for the indicated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) Solve ½ bh = A, for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) P = 2L + 2w, for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) ax + b = cx + d, for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) ax + b = cx + d, for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I = P(1 +rt) for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I = P(1 +rt) for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50760" y="2209680"/>
          <a:ext cx="358308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0760" y="2209680"/>
                    <a:ext cx="3583080" cy="1009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27" dir="8100000" blurRad="0" rotWithShape="0">
                      <a:srgbClr val="ffffff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8:17:14Z</dcterms:created>
  <dc:creator>PA Department of Education</dc:creator>
  <dc:description/>
  <dc:language>en-US</dc:language>
  <cp:lastModifiedBy>Parkland High School</cp:lastModifiedBy>
  <dcterms:modified xsi:type="dcterms:W3CDTF">2010-09-22T13:00:39Z</dcterms:modified>
  <cp:revision>4</cp:revision>
  <dc:subject/>
  <dc:title>1.5 Literal Equations </dc:title>
</cp:coreProperties>
</file>